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4.wmf" ContentType="image/x-wmf"/>
  <Override PartName="/ppt/media/image2.wmf" ContentType="image/x-wmf"/>
  <Override PartName="/ppt/media/drumroll.wav" ContentType="audio/x-wav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9B57-5144-4F9C-A8CF-DE61CC0A6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3B59-86C6-4488-9F43-E619E1F19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39E5-418C-43F0-9A03-3AB6DF93A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2359-CB95-47F2-905D-6E3DD2BEF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9163-7166-49DF-96D3-28561DBFF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8610-E640-4CC8-B7F3-62DDA2DE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DFAC-F956-4B63-8646-0CFEC5AB1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1A6B-E0BD-4D1C-A4AF-B9D507D75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9CAA-9B10-4AFA-81C3-61023338A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C563-5F12-4D1A-B426-3D24E0C96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FBE5-38AE-4688-8DD3-184ABEC1B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5426-B027-4C2E-A9CB-BB07EE7E1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B559-7B0C-44D8-B23E-1962D3C23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4EFC-8BB5-46E7-9057-BE88B79F5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1024-1BF3-4148-AD0D-69D30D85B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3C73-40CA-424B-A326-63934BBB8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0183-ADBB-4F79-854D-30C34B09D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0F6-FC83-47EE-A10F-F3649B4C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0DE-D815-4C66-A669-2F9CD78F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0D3-28D1-4F84-BC34-1DB62B04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22F-A3DB-416C-8D2F-ABF6DC97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2C5-62CC-4526-9455-8769D306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245-3E0B-445F-AD84-CAA1022E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E22-B141-4430-91FA-7271F7B4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D5B-E803-41EF-9704-466CE181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CEB-0059-4965-840A-1BB00571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628-3301-4E25-AB03-0A17C31F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CB0-D4FF-4F83-A69D-E3BE088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165-62BF-43B1-B4FC-6D5C8AB4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5A4-A538-4E82-A09E-35205CD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85B-7973-4C29-B823-6662116B80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171720"/>
            <a:ext cx="8839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ff"/>
                </a:solidFill>
                <a:latin typeface="Trebuchet MS"/>
              </a:rPr>
              <a:t>Teacher-of-Literacy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5050"/>
                </a:solidFill>
                <a:latin typeface="Trebuchet MS"/>
              </a:rPr>
              <a:t>Direct and indirect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Literacy Key Skills -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iteracy logo"/>
          <p:cNvPicPr/>
          <p:nvPr/>
        </p:nvPicPr>
        <p:blipFill>
          <a:blip r:embed="rId1"/>
          <a:stretch/>
        </p:blipFill>
        <p:spPr>
          <a:xfrm>
            <a:off x="6407280" y="1773360"/>
            <a:ext cx="26287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6408720" y="263700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www.Teacher-of-Literac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C900297565[1]"/>
          <p:cNvPicPr/>
          <p:nvPr/>
        </p:nvPicPr>
        <p:blipFill>
          <a:blip r:embed="rId2"/>
          <a:stretch/>
        </p:blipFill>
        <p:spPr>
          <a:xfrm>
            <a:off x="1908000" y="2421000"/>
            <a:ext cx="5040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1295280" y="762120"/>
            <a:ext cx="6400800" cy="4114800"/>
          </a:xfrm>
          <a:prstGeom prst="wedgeRoundRectCallout">
            <a:avLst>
              <a:gd name="adj1" fmla="val -3199"/>
              <a:gd name="adj2" fmla="val 78509"/>
              <a:gd name="adj3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2514600" y="1066680"/>
            <a:ext cx="4562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and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In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Speec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Reporting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1400" y="1599840"/>
            <a:ext cx="685800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 are two ways of reporting what somebody s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 spe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rect (or reported)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629400" y="335268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900365708[1]"/>
          <p:cNvPicPr/>
          <p:nvPr/>
        </p:nvPicPr>
        <p:blipFill>
          <a:blip r:embed="rId1"/>
          <a:stretch/>
        </p:blipFill>
        <p:spPr>
          <a:xfrm>
            <a:off x="6443640" y="4413240"/>
            <a:ext cx="2471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 flipH="1">
            <a:off x="380160" y="2209680"/>
            <a:ext cx="3886200" cy="2895840"/>
          </a:xfrm>
          <a:prstGeom prst="wedgeEllipseCallout">
            <a:avLst>
              <a:gd name="adj1" fmla="val -40893"/>
              <a:gd name="adj2" fmla="val 89856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38080" y="297180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direct speech we use the speaker’s ow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343400" cy="402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572000" y="2590920"/>
            <a:ext cx="1905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ext we put speech marks around the words spok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858000" y="2590920"/>
            <a:ext cx="1676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ech marks are also called inverted com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In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indirect speech (sometimes called reported speech) we do not use the exact words of the spe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we report what was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ometimes need to change pronouns and verb tenses. We don’t use speech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50920" y="5229360"/>
            <a:ext cx="3124080" cy="1218960"/>
          </a:xfrm>
          <a:prstGeom prst="wedgeEllipseCallout">
            <a:avLst>
              <a:gd name="adj1" fmla="val 33282"/>
              <a:gd name="adj2" fmla="val 47398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 am going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581280" y="53341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len said she was going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Punctuating Direct Spee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using direct speech in your writing you need to use the correct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xact words spoken must be enclosed in speech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rst word of the speech must begin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ords in the speech marks must be separated from the rest of the sentence by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use a new line when a new speaker begins to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Using Speech in Your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speech in fiction and non-fiction writing adds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writing out long pieces of direct speech can make your writing confusing. It also slows down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can summarise what the speaker has said so that the action moves along more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is useful when you want a contrast between what a character says and what he or she is thinking. (e.g. Lady Macbe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dvantages and disadvantages of each type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show what a character is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speeches can be bo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 many speakers can confuse the re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add variety to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speech can be summarised briefly so that it does not slow down the pace of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an show a contrast between what a character is saying and what he or she is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your writing use mainly reported speech. Use direct speech only to emphasise the main points your characters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bore and confuse your readers by writing out long conversations between your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should be used sparing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most effective when only the most forceful statements are put into direct spe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3:52:34Z</dcterms:created>
  <dc:creator>Martin</dc:creator>
  <dc:description/>
  <dc:language>en-US</dc:language>
  <cp:lastModifiedBy>MNugent</cp:lastModifiedBy>
  <dcterms:modified xsi:type="dcterms:W3CDTF">2013-02-23T14:41:37Z</dcterms:modified>
  <cp:revision>2</cp:revision>
  <dc:subject/>
  <dc:title>Slide 1</dc:title>
</cp:coreProperties>
</file>