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D06F-580C-4951-8598-6E362DDB0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AB7B-102D-41B1-AB4D-B898A0B96E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E9A6-1E4B-40C0-93C0-C41D8591D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26DC-2D6A-4CFA-9482-7EF7D5E10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1287-DE21-4067-9024-344B1971EF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2E55-CFBE-49F9-8C06-E0D262CA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200D-BC44-4E46-A31A-8C21CB25B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D89-62CF-431A-9A72-8EC0E0F13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6E9-9F79-4307-B465-D2EB17A3B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7689-026D-4F97-9CB4-622EE9E48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7D4B-080F-4BF0-AD5B-7B0A1B060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94AC-6D20-44ED-9B07-A18BE7A27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0063-BF0B-4F8A-B151-D15744B1B3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4C9F-BD7B-416C-93BA-30C82A99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9A33-EF4E-49EF-954E-910EE6B10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35D8-46D1-428D-9EB5-924A292E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3192-19EB-4891-8504-BC82C47D1B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68A-4432-4621-B3BC-441F84F0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C3B-740C-400C-9DC6-17DB2B04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309-45DC-4646-82A2-5CF5C9B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12A-2377-426C-AFCA-541FF9BE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C00-ABF2-48F3-8596-BD6E1410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F0D-973B-4E32-89D7-F8F49DE1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48B-6ECB-49D7-8818-8A6874C5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B86-B830-4CC7-8B2F-0E65E695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858-3B3A-4C6B-A470-78F778DE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691-6C6B-4421-A681-76943070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8D5-A5D6-4D9F-B84D-CC033BB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AFE-7B7B-40F4-BFD9-6B467CC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9BF-9052-4BBF-909B-42D5825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18EF-6DC0-4D98-BC50-4DC9753CDB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171720"/>
            <a:ext cx="8839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ff"/>
                </a:solidFill>
                <a:latin typeface="Trebuchet MS"/>
              </a:rPr>
              <a:t>Teacher-of-Literacy.c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5050"/>
                </a:solidFill>
                <a:latin typeface="Trebuchet MS"/>
              </a:rPr>
              <a:t>Direct and indirect spee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rebuchet MS"/>
              </a:rPr>
              <a:t>Literacy Key Skills -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iteracy logo"/>
          <p:cNvPicPr/>
          <p:nvPr/>
        </p:nvPicPr>
        <p:blipFill>
          <a:blip r:embed="rId1"/>
          <a:stretch/>
        </p:blipFill>
        <p:spPr>
          <a:xfrm>
            <a:off x="6407280" y="1773360"/>
            <a:ext cx="2628720" cy="844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6408720" y="26370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rebuchet MS"/>
              </a:rPr>
              <a:t>www.Teacher-of-Literac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MC900297565[1]"/>
          <p:cNvPicPr/>
          <p:nvPr/>
        </p:nvPicPr>
        <p:blipFill>
          <a:blip r:embed="rId2"/>
          <a:stretch/>
        </p:blipFill>
        <p:spPr>
          <a:xfrm>
            <a:off x="1908000" y="2421000"/>
            <a:ext cx="504036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1295280" y="762120"/>
            <a:ext cx="6400800" cy="4114800"/>
          </a:xfrm>
          <a:prstGeom prst="wedgeRoundRectCallout">
            <a:avLst>
              <a:gd name="adj1" fmla="val -3199"/>
              <a:gd name="adj2" fmla="val 78509"/>
              <a:gd name="adj3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2514600" y="1066680"/>
            <a:ext cx="4562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and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Indirect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BUMP N GRIND"/>
              </a:rPr>
              <a:t>Spee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BUMP N GRIND"/>
              <a:ea typeface="BUMP N GRI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Reporting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1400" y="1599840"/>
            <a:ext cx="685800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 are two ways of reporting what somebody say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rect spee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rect (or reported)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629400" y="3352680"/>
            <a:ext cx="1600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900365708[1]"/>
          <p:cNvPicPr/>
          <p:nvPr/>
        </p:nvPicPr>
        <p:blipFill>
          <a:blip r:embed="rId1"/>
          <a:stretch/>
        </p:blipFill>
        <p:spPr>
          <a:xfrm>
            <a:off x="6443640" y="4413240"/>
            <a:ext cx="2471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 flipH="1">
            <a:off x="380160" y="2209680"/>
            <a:ext cx="3886200" cy="2895840"/>
          </a:xfrm>
          <a:prstGeom prst="wedgeEllipseCallout">
            <a:avLst>
              <a:gd name="adj1" fmla="val -40893"/>
              <a:gd name="adj2" fmla="val 89856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38080" y="2971800"/>
            <a:ext cx="335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direct speech we use the speaker’s ow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4343400" cy="4027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572000" y="2590920"/>
            <a:ext cx="1905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text we put speech marks around the words spok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858000" y="2590920"/>
            <a:ext cx="16765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ech marks are also called inverted com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Indirect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indirect speech (sometimes called reported speech) we do not use the exact words of the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we report what was s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sometimes need to change pronouns and verb tenses. We don’t use speech ma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50920" y="5229360"/>
            <a:ext cx="3124080" cy="1218960"/>
          </a:xfrm>
          <a:prstGeom prst="wedgeEllipseCallout">
            <a:avLst>
              <a:gd name="adj1" fmla="val 33282"/>
              <a:gd name="adj2" fmla="val 47398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 am going ho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581280" y="5334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len said she was going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Punctuating Direct Speec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using direct speech in your writing you need to use the correct punct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xact words spoken must be enclosed in speech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rst word of the speech must begin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ords in the speech marks must be separated from the rest of the sentence by a com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use a new line when a new speaker begins to sp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Using Speech in Your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speech in fiction and non-fiction writing adds var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writing out long pieces of direct speech can make your writing confusing. It also slows down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can summarise what the speaker has said so that the action moves along more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ed speech is useful when you want a contrast between what a character says and what he or she is thinking. (e.g. Lady Macbe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dvantages and disadvantages of each type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show what a character is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ng speeches can be bo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 many speakers can confuse the re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can add variety to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rect speech can be summarised briefly so that it does not slow down the pace of the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can show a contrast between what a character is saying and what he or she is thin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your writing use mainly reported speech. Use direct speech only to emphasise the main points your characters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bore and confuse your readers by writing out long conversations between your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speech should be used sparing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most effective when only the most forceful statements are put into direct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3:52:34Z</dcterms:created>
  <dc:creator>Martin</dc:creator>
  <dc:description/>
  <dc:language>en-US</dc:language>
  <cp:lastModifiedBy>MNugent</cp:lastModifiedBy>
  <dcterms:modified xsi:type="dcterms:W3CDTF">2013-02-23T14:41:37Z</dcterms:modified>
  <cp:revision>2</cp:revision>
  <dc:subject/>
  <dc:title>Slide 1</dc:title>
</cp:coreProperties>
</file>